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8337-017C-4E3F-B9F2-6EF029871657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50B-28F1-4340-833D-47BFB1F3E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D61-2522-40C6-ADD6-84A26659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6EE-4E5D-4C3E-936C-A425DB21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5CA-CC21-4F3C-B241-1F11C69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5C6-96F4-41C3-9E32-A671FFBD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9E2-148F-4318-B0C2-D48CE702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202-1D3D-4142-8A8E-469E8A5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82A-3D31-4E8D-B510-AB45A1C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05D-DE10-4852-BC60-0024A30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9DA-BEF2-4210-A78B-9115587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6D9-B56D-4C14-8B84-7A8C2BB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942-844A-4A48-9D74-93570F7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3A5-1EAB-4EC6-B825-05353D2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526B-6D67-4667-9AD9-F85062C6CF9A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image" Target="../media/image4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4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3.wmf"/><Relationship Id="rId19" Type="http://schemas.openxmlformats.org/officeDocument/2006/relationships/image" Target="../media/image1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IE" sz="7200" spc="-1" strike="noStrike">
                <a:solidFill>
                  <a:srgbClr val="000000"/>
                </a:solidFill>
                <a:latin typeface="Calibri"/>
              </a:rPr>
              <a:t>Avoi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E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nger – mang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R verbs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ir - fi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 verb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Vendre - ven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J’a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Tu 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l/ elle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Nous av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Vous ave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ls/ elles 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6"/>
          <p:cNvSpPr/>
          <p:nvPr/>
        </p:nvSpPr>
        <p:spPr>
          <a:xfrm>
            <a:off x="5715000" y="500040"/>
            <a:ext cx="1214280" cy="2858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000920" y="2142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8"/>
          <p:cNvSpPr/>
          <p:nvPr/>
        </p:nvSpPr>
        <p:spPr>
          <a:xfrm>
            <a:off x="5500800" y="2357280"/>
            <a:ext cx="157140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9"/>
          <p:cNvSpPr/>
          <p:nvPr/>
        </p:nvSpPr>
        <p:spPr>
          <a:xfrm>
            <a:off x="5715000" y="4214880"/>
            <a:ext cx="1643040" cy="285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85840" y="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 mè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 cherch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nouvelle robe en 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 pè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 visit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etite église près de chez 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-tu acheté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nouveau vé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, mai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j‘ai acheté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n ballon de football pour l'anniversaire de mon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medi soir mes parent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nt dansé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jusqu'à minu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8. Vous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avez ecouté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 nouvelle chanson de Rihanna, Monsieu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42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J‘ai chois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T-Shirt avec une photo de Paris dess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vons fin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 gâteau hier s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 garçon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n‘a pas repo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à la question du pro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s grands-parent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ont ve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ur bate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vez choisi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, Mad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‘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ai attendu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autob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HTMLText1" descr=""/>
          <p:cNvPicPr/>
          <p:nvPr/>
        </p:nvPicPr>
        <p:blipFill>
          <a:blip r:embed="rId2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HTMLText2" descr=""/>
          <p:cNvPicPr/>
          <p:nvPr/>
        </p:nvPicPr>
        <p:blipFill>
          <a:blip r:embed="rId3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HTMLText3" descr=""/>
          <p:cNvPicPr/>
          <p:nvPr/>
        </p:nvPicPr>
        <p:blipFill>
          <a:blip r:embed="rId4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HTMLText4" descr=""/>
          <p:cNvPicPr/>
          <p:nvPr/>
        </p:nvPicPr>
        <p:blipFill>
          <a:blip r:embed="rId5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HTMLText5" descr=""/>
          <p:cNvPicPr/>
          <p:nvPr/>
        </p:nvPicPr>
        <p:blipFill>
          <a:blip r:embed="rId6"/>
          <a:stretch/>
        </p:blipFill>
        <p:spPr>
          <a:xfrm>
            <a:off x="0" y="0"/>
            <a:ext cx="53172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HTMLText6" descr=""/>
          <p:cNvPicPr/>
          <p:nvPr/>
        </p:nvPicPr>
        <p:blipFill>
          <a:blip r:embed="rId7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HTMLText7" descr=""/>
          <p:cNvPicPr/>
          <p:nvPr/>
        </p:nvPicPr>
        <p:blipFill>
          <a:blip r:embed="rId8"/>
          <a:stretch/>
        </p:blipFill>
        <p:spPr>
          <a:xfrm>
            <a:off x="0" y="0"/>
            <a:ext cx="6080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HTMLText8" descr=""/>
          <p:cNvPicPr/>
          <p:nvPr/>
        </p:nvPicPr>
        <p:blipFill>
          <a:blip r:embed="rId9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HTMLText9" descr=""/>
          <p:cNvPicPr/>
          <p:nvPr/>
        </p:nvPicPr>
        <p:blipFill>
          <a:blip r:embed="rId10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HTMLText10" descr=""/>
          <p:cNvPicPr/>
          <p:nvPr/>
        </p:nvPicPr>
        <p:blipFill>
          <a:blip r:embed="rId11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HTMLText11" descr=""/>
          <p:cNvPicPr/>
          <p:nvPr/>
        </p:nvPicPr>
        <p:blipFill>
          <a:blip r:embed="rId12"/>
          <a:stretch/>
        </p:blipFill>
        <p:spPr>
          <a:xfrm>
            <a:off x="0" y="0"/>
            <a:ext cx="6080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HTMLText12" descr=""/>
          <p:cNvPicPr/>
          <p:nvPr/>
        </p:nvPicPr>
        <p:blipFill>
          <a:blip r:embed="rId13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HTMLText13" descr=""/>
          <p:cNvPicPr/>
          <p:nvPr/>
        </p:nvPicPr>
        <p:blipFill>
          <a:blip r:embed="rId14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HTMLText14" descr=""/>
          <p:cNvPicPr/>
          <p:nvPr/>
        </p:nvPicPr>
        <p:blipFill>
          <a:blip r:embed="rId15"/>
          <a:stretch/>
        </p:blipFill>
        <p:spPr>
          <a:xfrm>
            <a:off x="0" y="0"/>
            <a:ext cx="3780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HTMLText15" descr=""/>
          <p:cNvPicPr/>
          <p:nvPr/>
        </p:nvPicPr>
        <p:blipFill>
          <a:blip r:embed="rId16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HTMLText16" descr=""/>
          <p:cNvPicPr/>
          <p:nvPr/>
        </p:nvPicPr>
        <p:blipFill>
          <a:blip r:embed="rId17"/>
          <a:stretch/>
        </p:blipFill>
        <p:spPr>
          <a:xfrm>
            <a:off x="0" y="0"/>
            <a:ext cx="45396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HTMLText17" descr=""/>
          <p:cNvPicPr/>
          <p:nvPr/>
        </p:nvPicPr>
        <p:blipFill>
          <a:blip r:embed="rId18"/>
          <a:stretch/>
        </p:blipFill>
        <p:spPr>
          <a:xfrm>
            <a:off x="0" y="0"/>
            <a:ext cx="53172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Text18" descr=""/>
          <p:cNvPicPr/>
          <p:nvPr/>
        </p:nvPicPr>
        <p:blipFill>
          <a:blip r:embed="rId19"/>
          <a:stretch/>
        </p:blipFill>
        <p:spPr>
          <a:xfrm>
            <a:off x="0" y="0"/>
            <a:ext cx="30780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are the past participles of some irregular ver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nd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ir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cr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écr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end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p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re l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ait                   comprendr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v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t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uvoi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419720" y="3733920"/>
            <a:ext cx="3581280" cy="2286000"/>
          </a:xfrm>
          <a:prstGeom prst="wedgeEllipseCallout">
            <a:avLst>
              <a:gd name="adj1" fmla="val -68703"/>
              <a:gd name="adj2" fmla="val -21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for patterns to help you lear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0245157"/>
          <p:cNvPicPr/>
          <p:nvPr/>
        </p:nvPicPr>
        <p:blipFill>
          <a:blip r:embed="rId1"/>
          <a:stretch/>
        </p:blipFill>
        <p:spPr>
          <a:xfrm>
            <a:off x="1714680" y="3881520"/>
            <a:ext cx="2552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Écoutez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ear.jpg"/>
          <p:cNvPicPr/>
          <p:nvPr/>
        </p:nvPicPr>
        <p:blipFill>
          <a:blip r:embed="rId1"/>
          <a:stretch/>
        </p:blipFill>
        <p:spPr>
          <a:xfrm>
            <a:off x="5929200" y="1643040"/>
            <a:ext cx="1157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28840" y="0"/>
            <a:ext cx="621504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 passé composé, il est constitu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participe passé avec son auxilia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e participe passé finit souvent en 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Quelquefois en i et u aus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choisi, j’ai mis, j’ai pri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dit, j’ai ri, je suis sorti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fini et j’ai compri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t j’ai mis, j’ai pris, j’ai dit, j’ai ri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voulu, j’ai pu, j’ai v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dû, j’ai bu, je suis ven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J’ai reçu et j’ai perdu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t j’ai pu, j’ai vu, j’ai lu, j’ai b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 passé composé, il est constitu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participe passé avec son auxilia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e participe passé finit souvent en 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Quelquefois en i et u aus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00:59Z</dcterms:created>
  <dc:creator>Jessica</dc:creator>
  <dc:description/>
  <dc:language>en-US</dc:language>
  <cp:lastModifiedBy>Phyllis</cp:lastModifiedBy>
  <dcterms:modified xsi:type="dcterms:W3CDTF">2010-06-20T09:24:20Z</dcterms:modified>
  <cp:revision>49</cp:revision>
  <dc:subject/>
  <dc:title>Slide 1</dc:title>
</cp:coreProperties>
</file>